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1F8-0942-43DF-B002-679F9070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FE2-D840-4D4E-977F-8A7F9B5F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184-FC88-4F9A-A4D1-A915661F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B5D-5D79-45DD-B9F2-1192C9D9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B8BD-D969-4F38-9C3B-9E70B5CF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DF3E-1B9B-4B6A-9540-F7F63268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1C0B-DF3D-416D-A7B6-A0B9D3F5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93DC-5F4F-4B28-BB51-FC5DBB1B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B38F-204D-479A-AB31-EAFACC4B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6C07-D534-4250-AD8A-0BEE09BA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AE87-1F87-4C9A-B2AA-D36B33DF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B55-4FA2-4076-8C1B-41E924CD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A114-1390-4059-A0A9-4C1B265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4500-5B97-4510-B317-29DFCEEF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D66D-286E-4C4B-9422-5C16B42A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DB16-8D52-446D-B689-70FF30AC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83A1-BF42-4463-8E73-76728695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BDB-9F29-4798-BA61-12EA1F76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AF9-DF7D-4A8C-8ABE-561927C9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349-73F6-41D6-88BF-9BFA04CE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371-7262-4539-8A5B-B8741BA4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AF1-3EF6-4E2A-917A-163EB9F8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1AB-50DE-4D5D-BD21-4CEFA07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BD3-AAF6-4F3C-83B7-DFA8D897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CEC-5032-4632-9688-1950760BC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338F-9A9B-419C-AAFF-55C41F9C1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0" t="0" r="0" b="133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676520" y="43434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where holistic growth of students and teachers matter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Science Technology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be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collaboration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Present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– Oxygen Flow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 Presentation on the effects of too much Carbon e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chure about 12 little things a student can do to save 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projects are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– W – L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ive es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rativ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 Detai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d Materi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nly ½ illustration boa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coloring materials like paint, water color, crayons, pastel and etc. except for spray p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ject should be covered by ace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owed to use any styro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ank you very muc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standing Carbon Cycle Key to Solving Problems of the World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unit the students will create videos and sample brochures that they will showcase during the Science Month. The brochures will present the 12 little things a student can to do to save our earth, and the videos will show the negative effects of too much emission of carbon diox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 Found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st Century Skil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vity and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ical Thinking and Problem Sol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 and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T (Information, Communications and Technology) Lite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 Learning Compet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the importance of the interdependency of living things for important gases through oxygen-carbon dioxid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truct a flow chart of Carbon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a video presentation showcasing the impacts of too much carbon e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a brochure presenting the 12 little things a student can do save ea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2819520" cy="2781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we do to save our earth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2419200" cy="2819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971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ways to conserve and save our ear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effects of too much emission carbon dioxide to our plane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arbon – oxygen cy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oxygen and carbon dioxi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carbon dioxide and oxygen impor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sessment Pl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m Showing of “The Inconvenient Trut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 – test on the concepts of carbon – oxygen cy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1:01:01Z</dcterms:created>
  <dc:creator>nave</dc:creator>
  <dc:description/>
  <dc:language>en-US</dc:language>
  <cp:lastModifiedBy>nave</cp:lastModifiedBy>
  <dcterms:modified xsi:type="dcterms:W3CDTF">2010-09-16T11:37:52Z</dcterms:modified>
  <cp:revision>6</cp:revision>
  <dc:subject/>
  <dc:title>Xavier University – Ateneo de Cagayan</dc:title>
</cp:coreProperties>
</file>